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725D-CE1C-4BDE-AE07-1CD76285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3B4-6742-4D7B-9F3E-B0C29A4FEB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791-371C-4DFC-8D0B-5335BB3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581-8780-42EB-B0CE-FE05E4C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373-76C7-45AD-A237-6CF1E1A3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37D-B520-413E-9E22-1AC1FD90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D326-02EB-4271-B65A-D1119D4C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B4D0-0F13-4DE1-B907-529F92B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923E-C969-45E4-8503-12509467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F339-946D-40D9-855F-7F7DA25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3620-27CD-4623-9BA1-AF3E8DE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4F11-1DF4-4877-B4D8-EEBB7D52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E8F6-27C6-420A-9884-17575ED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6DC-125C-4EC9-8FEC-26DEF30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93FD-6BAE-43B1-9FD5-BC2D7F7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E56D-0275-4F54-A1E0-9B6F649E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C5B4-D341-4F67-A367-19005E35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2A9-6BC6-4C43-947B-DB2979EE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7059-E174-4F11-96C3-416CF425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8EC-B769-40DF-A714-A713E231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6B8-F90C-4C7E-9849-B8B362CB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D84-A548-47AC-AF7A-311FE6A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7B0-2055-42AB-B4D6-15375968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08F-9C6C-48EB-86DC-41598D4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03E-B2FD-4C03-A003-E6A8E830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50F-BD48-47C3-B445-B37488C2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with permission of V. Morris, Phillips Preparator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43C-5D52-4526-B335-E6F8B7C0B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d with permission of V. Morris, Phillips Preparator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6A3A-8EAB-45B2-A500-7143EDA6D1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633-D7B2-41FB-B6F1-1090DC00EA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Climatograph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D0A2-CF12-4336-BA47-3843A3083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61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How to Read a Climatograph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place on Earth has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different places on Earth have different types of "typical" wea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laces are dry, some are wet, some are hot, some are cold, and some are a little of everything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624C-F9A8-4C96-A0CB-A28D2E1866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How to Read a Climatograph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find out what the weather is like where you live by looking out the window or by stepping outs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ather refers to temperature, precipitation (rain and snow), and the wind's direction and spe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who study the weather collect information from different places on Earth and come up with averages, or typical types of weather, for a particular pl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is average, or typical type of weather that occurs during a year, is called the "climate.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72E6-08C0-4A97-A197-644228B0A9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How to Read a Climatograph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ick way to get an idea of the climate of a particular place is to look at a "climate-graph," or "climatograph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climatograph is what scientists create to show a particular location's average temperature and precipitation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F45-87D6-4D26-AD03-3ECCC7482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ample Climatograph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Image of a climograph for Moose Factory, Canada.  Please have someone assist you with this."/>
          <p:cNvPicPr/>
          <p:nvPr/>
        </p:nvPicPr>
        <p:blipFill>
          <a:blip r:embed="rId1"/>
          <a:stretch/>
        </p:blipFill>
        <p:spPr>
          <a:xfrm>
            <a:off x="4788000" y="1066680"/>
            <a:ext cx="4071960" cy="5562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92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the graph represen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cipit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ad it on the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ne represents tempera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ad it on the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these numbers are averages per mon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211-BDC9-495D-801E-A5BBF16E7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ample Climatograph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months of the year are along the bottom of the grap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etters J, F, M, etc., stand for January, February, March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Image of a climograph for Moose Factory, Canada.  Please have someone assist you with this."/>
          <p:cNvPicPr/>
          <p:nvPr/>
        </p:nvPicPr>
        <p:blipFill>
          <a:blip r:embed="rId1"/>
          <a:stretch/>
        </p:blipFill>
        <p:spPr>
          <a:xfrm>
            <a:off x="5072040" y="1371600"/>
            <a:ext cx="4071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87E-93CF-4689-854C-76BA977F95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Climatograph:  Answer the question using i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17960" y="1143000"/>
            <a:ext cx="392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cold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tt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est month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Jul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Decembe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sea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hicago climatograph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CB1D-EDE1-4810-9599-A22D62E43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Use the climatograph to answer the questions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cold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ttest mon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est mon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Ma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M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sea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vancouver climatograph"/>
          <p:cNvPicPr/>
          <p:nvPr/>
        </p:nvPicPr>
        <p:blipFill>
          <a:blip r:embed="rId1"/>
          <a:stretch/>
        </p:blipFill>
        <p:spPr>
          <a:xfrm>
            <a:off x="3657600" y="685800"/>
            <a:ext cx="525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2:37:58Z</dcterms:created>
  <dc:creator>Jeff and Vickie</dc:creator>
  <dc:description/>
  <dc:language>en-US</dc:language>
  <cp:lastModifiedBy>skrial</cp:lastModifiedBy>
  <dcterms:modified xsi:type="dcterms:W3CDTF">2011-01-07T14:13:06Z</dcterms:modified>
  <cp:revision>10</cp:revision>
  <dc:subject/>
  <dc:title>Climatographs, Latitude and Longitude Review</dc:title>
</cp:coreProperties>
</file>